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871-D10C-4E4C-A0DE-47EE9F7D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123-865D-48BE-A1AC-B43C1B66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A01-805F-4B98-8B88-DA963729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0EC-34C9-46F9-A46A-C75AA65D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B6B-7A25-4D5C-A855-6D55A584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5BA-DE23-434F-A8A1-4989A4C1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6E2-4BEB-4AB2-9FA3-98460C13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4B9-F72E-4214-BFFB-88DF9F54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7BE-9B47-4AE2-AC7D-AD34C531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640-0F45-45B5-9868-CCF68D22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52A-F877-4B45-8AB3-6BA5A0A0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6D9-2C99-4075-9E08-76824F80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DC82-43E7-4986-BB5E-6655EE925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971640" y="2133720"/>
            <a:ext cx="70563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гибридное скрещивание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тий закон Менделя.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476360" y="765000"/>
            <a:ext cx="5040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9640" y="4292640"/>
            <a:ext cx="77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ин из основных законов генетик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разработал учитель химии и биологии МКОУ Лебединская СОШ Гюлахмедов Мирзабег Гюл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ежская область Богучарский р-он с. Леб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3040" y="411120"/>
            <a:ext cx="8213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крещивания были взя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жёлтыми гладки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с зелёными морщинистыми семе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395280" y="333360"/>
            <a:ext cx="8534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рещивание по двум парам призна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домин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а признака рецесс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з.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риды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 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емена гибридов первого поколения оказались все желтые гладк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12000" y="2205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16720" y="220500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2843280" y="2133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203640" y="2133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601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й закон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ы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первого родителя: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тип второго родителя: </a:t>
            </a: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AaB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ёлт. гл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скрещ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.г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aB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.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ме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 Ab  aB  ab           AB  Ab  aB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907640" y="1700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41128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771640" y="1773360"/>
            <a:ext cx="28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2843280" y="1700280"/>
            <a:ext cx="86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579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6300360" y="1773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6516720" y="1773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6659640" y="1700280"/>
            <a:ext cx="1009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3500280"/>
          <a:ext cx="6696000" cy="3168720"/>
        </p:xfrm>
        <a:graphic>
          <a:graphicData uri="http://schemas.openxmlformats.org/drawingml/2006/table">
            <a:tbl>
              <a:tblPr/>
              <a:tblGrid>
                <a:gridCol w="1674720"/>
                <a:gridCol w="1673280"/>
                <a:gridCol w="1674720"/>
                <a:gridCol w="16732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b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0"/>
          <p:cNvSpPr/>
          <p:nvPr/>
        </p:nvSpPr>
        <p:spPr>
          <a:xfrm>
            <a:off x="900000" y="45086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1"/>
          <p:cNvSpPr/>
          <p:nvPr/>
        </p:nvSpPr>
        <p:spPr>
          <a:xfrm>
            <a:off x="900000" y="371628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2"/>
          <p:cNvSpPr/>
          <p:nvPr/>
        </p:nvSpPr>
        <p:spPr>
          <a:xfrm>
            <a:off x="900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900000" y="587700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196360" y="3068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3853080" y="306864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6"/>
          <p:cNvSpPr/>
          <p:nvPr/>
        </p:nvSpPr>
        <p:spPr>
          <a:xfrm>
            <a:off x="5221800" y="3068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680616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0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й ЗАКОН МЕНДЕ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ая пара контрастных признаков наследуются независимо друг от друга в ряду поколений; в результате среди гибридов второго поколения появляются потомки с новыми комбинациями признаков в соотношении 9: 3: 3 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ИРУЮЩЕЕ СКРЕЩ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 х а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меты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 А а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00%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аметы    А а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а аа (1 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5:40:37Z</dcterms:created>
  <dc:creator>ДОМ</dc:creator>
  <dc:description/>
  <dc:language>en-US</dc:language>
  <cp:lastModifiedBy>Василий</cp:lastModifiedBy>
  <dcterms:modified xsi:type="dcterms:W3CDTF">2012-01-25T14:45:10Z</dcterms:modified>
  <cp:revision>9</cp:revision>
  <dc:subject/>
  <dc:title>                    </dc:title>
</cp:coreProperties>
</file>